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B82-50BB-4F3A-9B2E-E7728DF6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A99-6E77-4AED-A482-1260DCC2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6CA-4D9D-4ECB-A539-3CF44CD0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A00-B56A-4B83-8F2C-6066E7A9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5860-E877-44A7-8830-D3216A29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9FE7-1B10-42C9-A848-EBAD1152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B9D-ED95-404F-AE10-8E30F90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D0FA-9EBD-499D-9891-B5BE525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076B-4A5E-4524-94AC-D8F1FB5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21F8-8D2C-4169-8723-6C76B8C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D14B-2001-48E2-B731-3D74B51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BAA-646C-410B-8000-36D0226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D287-7210-4DFA-B0DA-33A709D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9D3-B273-4576-BBAB-F32CF85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79E-CB5E-40EC-BF99-70487D59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68FB-A18E-47E4-82E6-D0D4011E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6EA5-A7CF-4A24-9960-51C22A68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8AFF-6861-4FD8-8F6E-0E84B8A7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9682-4244-4427-BFAC-14893C6A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76F9-2018-47AA-A1A5-5FCD4DC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515B-16CE-446B-A61D-B20AAE6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7314-2BF3-4E93-A322-F6811BF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491-5E0B-4884-B4A5-940C203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964C-1AD8-42CA-8929-94A36FA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763D-305F-4111-8AA6-C983433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96A7-8814-4D8A-A52B-B9093FD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8114-B5C3-48E4-9B87-04B801D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989C-6698-4DF0-8582-D692557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2A6E-0C00-4598-885B-E149631E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B2D9-C1B5-4F63-A522-2340285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0343-587D-48C1-8565-6C02272F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E63E-AEE1-4C57-B7E1-DBA465BF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8367-D4E3-42BB-A060-F88DF8D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2A3-F1A5-47DF-9EE1-1E966F82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585D-CE70-4BB8-88DD-48D500B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14E9-8AED-4C9B-A1FC-17133F3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56C6-0DC2-4130-80F1-CDBD950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3A44-BBDD-49D3-B9A5-9A70DCB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FF60-FB7F-4863-A5F8-679A328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727D-77A4-483D-A293-D25A083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4FF5-7E23-490E-BD71-E8358C6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2485-BF5F-48CD-B3FC-2AE86ADA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F421-5348-4162-9114-CAA46ECD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1F2-20F5-484F-B259-0353DA4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399-6832-4D6B-98F9-255769C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135-2C36-4D32-B5BE-C1C07D1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CBB-5827-498E-B23B-D9BC7C2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CEB-9035-4BAD-8A2E-E7F1DC0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EDA-19AB-4908-AF45-C160306D5F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725-04BF-4E9B-B6F3-6FE1517DA7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8E5-3404-48D6-B4B9-066991D019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CB6-75FF-4052-BD76-73DC9A2B70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212760"/>
            <a:ext cx="8259840" cy="407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0" descr="http://im7-tub.yandex.net/i?id=188270019-04&amp;n=11"/>
          <p:cNvPicPr/>
          <p:nvPr/>
        </p:nvPicPr>
        <p:blipFill>
          <a:blip r:embed="rId2"/>
          <a:stretch/>
        </p:blipFill>
        <p:spPr>
          <a:xfrm>
            <a:off x="4857840" y="4214880"/>
            <a:ext cx="392904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ополагающий вопрос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Когда Земля превратится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в черную дыру?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http://im8-tub.yandex.net/i?id=203031123-07&amp;n=11"/>
          <p:cNvPicPr/>
          <p:nvPr/>
        </p:nvPicPr>
        <p:blipFill>
          <a:blip r:embed="rId1"/>
          <a:stretch/>
        </p:blipFill>
        <p:spPr>
          <a:xfrm>
            <a:off x="4929120" y="314316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весит св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свет лишен массы, а значит, и веса, то почему он не может преодолеть силы притяжения черной дыр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черная дыра и почему она засасывает в себя космические те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ой должна стать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Земля, чтобы превратится в черную дыр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еб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же характеризует масса тела, какое его свойство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же характеризует физическое понятие «сила»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 чего состоит свет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чему мы видим различные тела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ак распространяется свет в однородной сред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такое световой луч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существует реально: световой пучок или световой луч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какие группы подразделяют элементарные частицы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ть ли во вселенной другие миры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Как космические исследования помогают в познании Земли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Если свет лишен массы, а значит и веса, то почему он не может преодолеть силы притяжения черной ды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масса превращаться в энергию, то отсюда следует, что энергия представляет некоторое количество мас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 звезд, проходя мимо Солнца, отклоняется от прямолинейного пути, потому что он притягивается гравитацией Солн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Цели проект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чащиеся смогут ответит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на проблемные, основополагающий и учебные вопрос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делают  свою презентацию, буклет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знают много интересного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рышева Н.С., Важеевская Н.Е., физика, 7 класс: учебник для общеобразоват. учеб. заведений, М.: Дрофа, 20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сьянов В.А., физика, 10 класс: учебник для общеобразоват. учеб. заведений, М.: Дрофа, 200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4617b"/>
                </a:solidFill>
                <a:latin typeface="Calibri"/>
              </a:rPr>
              <a:t>Желаю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7800" spc="-1" strike="noStrike">
                <a:solidFill>
                  <a:srgbClr val="04617b"/>
                </a:solidFill>
                <a:latin typeface="Calibri"/>
              </a:rPr>
              <a:t>творческих успехов!</a:t>
            </a:r>
            <a:endParaRPr b="0" lang="en-US" sz="7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28:42Z</dcterms:created>
  <dc:creator>Мамочка</dc:creator>
  <dc:description/>
  <dc:language>en-US</dc:language>
  <cp:lastModifiedBy>Мамочка</cp:lastModifiedBy>
  <dcterms:modified xsi:type="dcterms:W3CDTF">2010-05-26T16:36:21Z</dcterms:modified>
  <cp:revision>14</cp:revision>
  <dc:subject/>
  <dc:title>Слайд 1</dc:title>
</cp:coreProperties>
</file>